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26A4-A544-495F-8E5B-BC46D7F88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ve this slide up while you answer any questions (or until next speaker starts his/her talk) so people can copy down the UR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mention that Suzi is working on that last i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ly go over some of the main features.  Next slide has screensho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A22D-59B4-4D3C-B58C-E7FC1D1A4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1E9D-708A-4E35-BCFA-1D330F63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71C7-5F8F-42BC-8755-E710D7D51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5F91-19D8-4D54-B483-D841DF963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1554-7EAB-491B-9DB3-A4DECD31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A3FA-CE78-4F97-8D0D-F2C489CA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B363-AA0D-45B3-B3F6-DFC6D7F7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E62C-8F55-4106-8383-E4B20813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01AF-C42C-4203-95F6-3DEAFE1E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0AB0-DBC7-49B7-A91B-AEFD0DC5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050D-2F6A-4C18-B803-2ABD3129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71A9-DC6D-459C-8E61-2F56A348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6E85-B767-4A23-A1F6-170B2AA317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.fruitfly.org/annot/apollo/install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pollo Progress Re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040" y="5410080"/>
            <a:ext cx="74674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MOD Meeting, Berkel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ptember 15, 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67183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33520" y="441936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de available at SourceForge: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http://sourceforge.net/projects/gmod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ller available at 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http://ww.fruitfly.org/annot/apollo/install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219320" y="609480"/>
            <a:ext cx="6718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ay 2003: Coming so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66"/>
                </a:solidFill>
                <a:latin typeface="Arial"/>
              </a:rPr>
              <a:t>Upgrade to JDK 1.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Handle non-gene annotations bett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mprove Jal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te gapped alignments for GAME (ciga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66"/>
                </a:solidFill>
                <a:latin typeface="Arial"/>
              </a:rPr>
              <a:t>Match/mismatch coloring sche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Get alignment sequences for Ensembl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Have sequences, don’t have ciga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ove memory us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mprove synteny 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Layer raw BLAST results over current reg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66"/>
                </a:solidFill>
                <a:latin typeface="Arial"/>
              </a:rPr>
              <a:t>Highlight matches to new sequ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ighlighting new sequenc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sequences (since last pipeline run) box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” date for each type can be specified in tiers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t pipeline databases might have different update d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 "Fly Sequence", "Community GB” …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"31-JAN-2003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 "BLASTX Similarity to Fly", "BLASTX Similarity to Fly” …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"31-MAY-2002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lignments for Jalview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full alignment of results (including gap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gars are a compact way to represent gapped alig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ATATAGGGATAT-----ATAGG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ATATA---ATATCCCCCATAGG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M 5  I 3 M 4 D 5 M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need to represent mismatches in cigars, just g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lignment display before and after cigar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828800" y="4191120"/>
            <a:ext cx="7086600" cy="2492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708516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OP/Apollo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P now integrated with Apol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 as standalone application or launch from Apol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ad/layer raw analysis resul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ST (all flavo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SC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gene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ing soon: BLAT (Josh Kamink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OP/Apollo GUI for BLAS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92468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pollo use/reus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48 downloads YT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93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2 Solar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2 Mac OS 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73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8 Generic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groups are adapting Apollo to their needs (e.g. writing new data adapt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Apollo Te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rkele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zanna Lewis, Nomi Harris, Mark Gibson, Sima Misra, (John Richter), (Colin Wie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ll the FlyBase curato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nger Institut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vek Iyer, (Steve Searle), (Michele Clam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G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vid Goodstein (adding regex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8T03:56:12Z</dcterms:created>
  <dc:creator>Nomi Harris</dc:creator>
  <dc:description/>
  <dc:language>en-US</dc:language>
  <cp:lastModifiedBy>Nomi Haris</cp:lastModifiedBy>
  <dcterms:modified xsi:type="dcterms:W3CDTF">2003-09-15T04:37:55Z</dcterms:modified>
  <cp:revision>310</cp:revision>
  <dc:subject/>
  <dc:title>Slide 1</dc:title>
</cp:coreProperties>
</file>